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EE99-627D-4212-8CE7-6287CA9C6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4417-97E3-40EA-8F75-A34C7E1FE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2C12-AE82-4230-AA88-E3F959A47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7202-8BE6-4A25-90E3-65A33E869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F2AB-F933-4F7C-BF5C-5F4205226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65BF-EEE0-4360-BBB0-C283CCDC9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7925-DF39-44C6-8741-152038CA3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E361-A73F-454D-A859-29BFF763A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7CA2-E19F-4153-8E49-58CF1FD8D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52E2-6269-4C78-AE87-3289B77B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EEDA-7117-444A-BBC9-858C4013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1569-6308-4F4D-B13E-A3C8AD09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DC855-E2C5-4DEE-B05A-929BB39739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Vocabulary </a:t>
            </a:r>
            <a:br>
              <a:rPr sz="8800"/>
            </a:br>
            <a:r>
              <a:rPr b="0" lang="en-US" sz="8800" spc="-1" strike="noStrike" u="sng">
                <a:solidFill>
                  <a:srgbClr val="000000"/>
                </a:solidFill>
                <a:uFillTx/>
                <a:latin typeface="Calibri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4648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me: Dylan Sail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6781680" cy="1469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rm: air resistance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228240" y="1905120"/>
            <a:ext cx="8534520" cy="312408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ash"/>
            <a:miter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ition: the force of air pushing against a moving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3"/>
          <p:cNvSpPr/>
          <p:nvPr/>
        </p:nvSpPr>
        <p:spPr>
          <a:xfrm>
            <a:off x="762120" y="5135400"/>
            <a:ext cx="7467480" cy="155700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y Sentence: air resistance can cause a change in 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rm: air resistanc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3733920" cy="457200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ash"/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ctu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3"/>
          <p:cNvSpPr/>
          <p:nvPr/>
        </p:nvSpPr>
        <p:spPr>
          <a:xfrm>
            <a:off x="4191120" y="1600200"/>
            <a:ext cx="4343400" cy="228852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4"/>
          <p:cNvSpPr/>
          <p:nvPr/>
        </p:nvSpPr>
        <p:spPr>
          <a:xfrm>
            <a:off x="4191120" y="3886200"/>
            <a:ext cx="4343400" cy="228852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n-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6781680" cy="1469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rm: gra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228240" y="1905120"/>
            <a:ext cx="8534520" cy="312408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ash"/>
            <a:miter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ition: the force of attraction between all objects with m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762120" y="5135400"/>
            <a:ext cx="7467480" cy="155700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y Sentence: Gravity pulls things do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rm: gra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3733920" cy="457200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ash"/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ctu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4191120" y="1600200"/>
            <a:ext cx="4343400" cy="228852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4"/>
          <p:cNvSpPr/>
          <p:nvPr/>
        </p:nvSpPr>
        <p:spPr>
          <a:xfrm>
            <a:off x="4191120" y="3886200"/>
            <a:ext cx="4343400" cy="228852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n-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23"/>
          <p:cNvSpPr/>
          <p:nvPr/>
        </p:nvSpPr>
        <p:spPr>
          <a:xfrm>
            <a:off x="477720" y="4834080"/>
            <a:ext cx="3657600" cy="36180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24"/>
          <p:cNvSpPr/>
          <p:nvPr/>
        </p:nvSpPr>
        <p:spPr>
          <a:xfrm>
            <a:off x="976320" y="5460840"/>
            <a:ext cx="1351080" cy="27468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25"/>
          <p:cNvSpPr/>
          <p:nvPr/>
        </p:nvSpPr>
        <p:spPr>
          <a:xfrm>
            <a:off x="1620720" y="5049720"/>
            <a:ext cx="1122480" cy="1317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26"/>
          <p:cNvSpPr/>
          <p:nvPr/>
        </p:nvSpPr>
        <p:spPr>
          <a:xfrm>
            <a:off x="1828800" y="2819520"/>
            <a:ext cx="1371600" cy="15238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Elbow Connector 27"/>
          <p:cNvCxnSpPr/>
          <p:nvPr/>
        </p:nvCxnSpPr>
        <p:spPr>
          <a:xfrm rot="5400000">
            <a:off x="1789920" y="2323800"/>
            <a:ext cx="686520" cy="39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90" name="Elbow Connector 28"/>
          <p:cNvCxnSpPr/>
          <p:nvPr/>
        </p:nvCxnSpPr>
        <p:spPr>
          <a:xfrm rot="5400000">
            <a:off x="2437560" y="2590560"/>
            <a:ext cx="457920" cy="3960"/>
          </a:xfrm>
          <a:prstGeom prst="bentConnector3">
            <a:avLst>
              <a:gd name="adj1" fmla="val 4996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91" name="Elbow Connector 29"/>
          <p:cNvCxnSpPr/>
          <p:nvPr/>
        </p:nvCxnSpPr>
        <p:spPr>
          <a:xfrm rot="5400000">
            <a:off x="2170800" y="2552400"/>
            <a:ext cx="534240" cy="3960"/>
          </a:xfrm>
          <a:prstGeom prst="bentConnector3">
            <a:avLst>
              <a:gd name="adj1" fmla="val 49966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92" name="Elbow Connector 30"/>
          <p:cNvCxnSpPr/>
          <p:nvPr/>
        </p:nvCxnSpPr>
        <p:spPr>
          <a:xfrm rot="5400000">
            <a:off x="1485360" y="2781360"/>
            <a:ext cx="686520" cy="3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6781680" cy="1469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rm: X and y axis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28240" y="1905120"/>
            <a:ext cx="8534520" cy="312408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ash"/>
            <a:miter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ition: the x axis is the horizontal number line on a coordinate plane; the y axis is the veridical number line on the coordinate ch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762120" y="5135400"/>
            <a:ext cx="7467480" cy="192276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y Sentence:  The X and Y axis help determine what line are on the cha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rm: X axis and 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3733920" cy="457200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ash"/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ctu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3"/>
          <p:cNvSpPr/>
          <p:nvPr/>
        </p:nvSpPr>
        <p:spPr>
          <a:xfrm>
            <a:off x="4191120" y="1600200"/>
            <a:ext cx="4343400" cy="228852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4"/>
          <p:cNvSpPr/>
          <p:nvPr/>
        </p:nvSpPr>
        <p:spPr>
          <a:xfrm>
            <a:off x="4191120" y="3886200"/>
            <a:ext cx="4343400" cy="228852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n-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traight Connector 6"/>
          <p:cNvSpPr/>
          <p:nvPr/>
        </p:nvSpPr>
        <p:spPr>
          <a:xfrm flipH="1">
            <a:off x="1293480" y="2440080"/>
            <a:ext cx="3240" cy="2590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traight Connector 8"/>
          <p:cNvSpPr/>
          <p:nvPr/>
        </p:nvSpPr>
        <p:spPr>
          <a:xfrm>
            <a:off x="1295280" y="5029200"/>
            <a:ext cx="25909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6781680" cy="1469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rm: Science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28240" y="1905120"/>
            <a:ext cx="8534520" cy="312408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ash"/>
            <a:miter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ition: the study of earth and the natural wor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3"/>
          <p:cNvSpPr/>
          <p:nvPr/>
        </p:nvSpPr>
        <p:spPr>
          <a:xfrm>
            <a:off x="762120" y="5135400"/>
            <a:ext cx="7467480" cy="155700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y Sentence: in Science class we learn new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rm: Sci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3733920" cy="457200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ash"/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ctu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3"/>
          <p:cNvSpPr/>
          <p:nvPr/>
        </p:nvSpPr>
        <p:spPr>
          <a:xfrm>
            <a:off x="4191120" y="1600200"/>
            <a:ext cx="4343400" cy="228852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ample: the study of the ea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4"/>
          <p:cNvSpPr/>
          <p:nvPr/>
        </p:nvSpPr>
        <p:spPr>
          <a:xfrm>
            <a:off x="4191120" y="3886200"/>
            <a:ext cx="4343400" cy="228852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n-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6782040" cy="1469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rm: Scientific the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228240" y="1905120"/>
            <a:ext cx="8534520" cy="312408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ash"/>
            <a:miter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ition:  a possible explanation for repeatedly observ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3"/>
          <p:cNvSpPr/>
          <p:nvPr/>
        </p:nvSpPr>
        <p:spPr>
          <a:xfrm>
            <a:off x="762120" y="5135400"/>
            <a:ext cx="7467480" cy="155700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y Sentence: in class we come up with scientific theory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rm: Scientific the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3733920" cy="457200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ash"/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ctu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191120" y="1600200"/>
            <a:ext cx="4343400" cy="228852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4191120" y="3886200"/>
            <a:ext cx="4343400" cy="228852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n-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6781680" cy="1469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rm: Reference point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28240" y="1905120"/>
            <a:ext cx="8534520" cy="312408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ash"/>
            <a:miter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ition: the place from which you measure, record or witness an ev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3"/>
          <p:cNvSpPr/>
          <p:nvPr/>
        </p:nvSpPr>
        <p:spPr>
          <a:xfrm>
            <a:off x="762120" y="5135400"/>
            <a:ext cx="7467480" cy="155700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y Sentence: In our lab we used a reference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itle 1"/>
          <p:cNvSpPr/>
          <p:nvPr/>
        </p:nvSpPr>
        <p:spPr>
          <a:xfrm>
            <a:off x="990720" y="304920"/>
            <a:ext cx="6781680" cy="1469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rm: Scientific law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ubtitle 2"/>
          <p:cNvSpPr/>
          <p:nvPr/>
        </p:nvSpPr>
        <p:spPr>
          <a:xfrm>
            <a:off x="228600" y="1905120"/>
            <a:ext cx="8534520" cy="312408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ition: a rule that a pattern in n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762120" y="5135400"/>
            <a:ext cx="7467480" cy="155700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y Sentence: Scientist follow the scientific la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rm: scientific la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3733920" cy="457200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ash"/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ctu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4191120" y="1600200"/>
            <a:ext cx="4343400" cy="228852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4191120" y="3886200"/>
            <a:ext cx="4343400" cy="228852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n-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rm: Reference poin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3733920" cy="457200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ash"/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ctu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3"/>
          <p:cNvSpPr/>
          <p:nvPr/>
        </p:nvSpPr>
        <p:spPr>
          <a:xfrm>
            <a:off x="4191120" y="1600200"/>
            <a:ext cx="4343400" cy="228852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4191120" y="3886200"/>
            <a:ext cx="4343400" cy="228852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n-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6781680" cy="1469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rm: acceleration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240" y="1905120"/>
            <a:ext cx="8534520" cy="312408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ash"/>
            <a:miter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ition: any change in speed or direction of an object or the rat of velocity with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762120" y="5135400"/>
            <a:ext cx="7467480" cy="155700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y Sentence: When a car goes ford it has acceler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rm: accelera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3733920" cy="457200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ash"/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ctu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4191120" y="1600200"/>
            <a:ext cx="4343400" cy="228852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4"/>
          <p:cNvSpPr/>
          <p:nvPr/>
        </p:nvSpPr>
        <p:spPr>
          <a:xfrm>
            <a:off x="4191120" y="3886200"/>
            <a:ext cx="4343400" cy="228852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n-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6781680" cy="1469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rm: deceleration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28240" y="1905120"/>
            <a:ext cx="8534520" cy="312408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ash"/>
            <a:miter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ition: a rate in decrease of veloci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762120" y="5135400"/>
            <a:ext cx="7467480" cy="155700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y Sentence: Deceleration is the opposite of accel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rm: decelera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3733920" cy="457200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ash"/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ctu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4191120" y="1600200"/>
            <a:ext cx="4343400" cy="228852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4191120" y="3886200"/>
            <a:ext cx="4343400" cy="228852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n-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6781680" cy="1469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rm: friction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228240" y="1905120"/>
            <a:ext cx="8534520" cy="312408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ash"/>
            <a:miter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ition: the rubbing of one object or surface against  a moving object  or anoth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3"/>
          <p:cNvSpPr/>
          <p:nvPr/>
        </p:nvSpPr>
        <p:spPr>
          <a:xfrm>
            <a:off x="762120" y="5135400"/>
            <a:ext cx="7467480" cy="155700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y Sentence: Friction slows things do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rm: fric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3733920" cy="457200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ash"/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ctu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3"/>
          <p:cNvSpPr/>
          <p:nvPr/>
        </p:nvSpPr>
        <p:spPr>
          <a:xfrm>
            <a:off x="4191120" y="1600200"/>
            <a:ext cx="4343400" cy="228852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4"/>
          <p:cNvSpPr/>
          <p:nvPr/>
        </p:nvSpPr>
        <p:spPr>
          <a:xfrm>
            <a:off x="4191120" y="3886200"/>
            <a:ext cx="4343400" cy="228852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n-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9T17:56:36Z</dcterms:created>
  <dc:creator>poweruser</dc:creator>
  <dc:description/>
  <dc:language>en-US</dc:language>
  <cp:lastModifiedBy>BHISD</cp:lastModifiedBy>
  <dcterms:modified xsi:type="dcterms:W3CDTF">2011-12-02T14:35:38Z</dcterms:modified>
  <cp:revision>14</cp:revision>
  <dc:subject/>
  <dc:title>Term:  </dc:title>
</cp:coreProperties>
</file>